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0D8-04E8-4EE4-8F2E-3E092976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FFC-DB2D-4D95-A5BD-44491285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238-29AC-4FE5-A7DF-B831F4A2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5D3-9C2F-4C9B-87C9-A623DCD7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8F64-EB36-4189-A26E-3E7B8C36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AA76-4F0E-4DA6-8D66-4492D617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3F06-50F2-4088-AF66-FF8396D0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0284-959D-43FA-B819-F553FBB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1BAA-F393-429F-B5EA-B8F009C3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1C6C-B460-41B0-8A4C-1BDB1E9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C30A-9024-4923-BC4D-2D1096A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E4F-CBF2-4A71-A3D6-0D571FA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BF92-DDB7-4B75-9C69-30539DA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4CD-452A-4F29-99F9-1E53A2D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31A8-3A24-4DCE-941F-9FFE980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B54-8034-45DB-8B12-5D27E30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5A64-323B-48BC-9BD4-28AE1EA2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B9F-8763-4E92-9395-8E96EE33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4D6-B2ED-4060-9E78-00A3C412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D6D-866A-44C6-BE08-5F167D1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11E-588E-4311-85BA-AE7D544B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71B-15E1-49AD-A53A-D012894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F87-C626-479A-84FE-03D22CF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275-B67D-4FD8-ADDD-9C1BF33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9893-C993-43B2-AC3A-1DA73DAA04E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A054-F781-4883-98D6-308A3F891C2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1ff7"/>
                </a:solidFill>
                <a:latin typeface="Arial Black"/>
              </a:rPr>
              <a:t>Ma Vi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ewis Wal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1ff7"/>
                </a:solidFill>
                <a:latin typeface="Arial Black"/>
              </a:rPr>
              <a:t>Ma Vi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 Black"/>
              </a:rPr>
              <a:t>Bonjour je m’appelle Lew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Arial Black"/>
              </a:rPr>
              <a:t>J’habite </a:t>
            </a:r>
            <a:r>
              <a:rPr b="0" lang="en-US" sz="2800" spc="-1" strike="noStrike">
                <a:solidFill>
                  <a:srgbClr val="00cc00"/>
                </a:solidFill>
                <a:latin typeface="Arial Black"/>
              </a:rPr>
              <a:t>à</a:t>
            </a:r>
            <a:r>
              <a:rPr b="0" lang="en-GB" sz="2800" spc="-1" strike="noStrike">
                <a:solidFill>
                  <a:srgbClr val="00cc00"/>
                </a:solidFill>
                <a:latin typeface="Arial Black"/>
              </a:rPr>
              <a:t> Edimbourg en Ecosse 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J’adore Edimbour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979880" y="2349360"/>
            <a:ext cx="41641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81ff7"/>
                </a:solidFill>
                <a:latin typeface="Arial Black"/>
              </a:rPr>
              <a:t>Edimbourg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Edimbourg est dans le sud-est de l’Ecosse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b17"/>
                </a:solidFill>
                <a:latin typeface="Arial Black"/>
              </a:rPr>
              <a:t>A Edimbourg il ya beaucoup de magasins, comme…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273e"/>
                </a:solidFill>
                <a:latin typeface="Arial Black"/>
              </a:rPr>
              <a:t>le supermarch</a:t>
            </a:r>
            <a:r>
              <a:rPr b="0" lang="en-US" sz="2000" spc="-1" strike="noStrike">
                <a:solidFill>
                  <a:srgbClr val="af273e"/>
                </a:solidFill>
                <a:latin typeface="Arial Black"/>
              </a:rPr>
              <a:t>é,le centre commercial,le magasin de jouet, et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ce0d"/>
                </a:solidFill>
                <a:latin typeface="Arial Black"/>
              </a:rPr>
              <a:t>La plupast des magasins et des attractions touristiques sont sus Princes Street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165640" y="1981080"/>
            <a:ext cx="27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81ff7"/>
                </a:solidFill>
                <a:latin typeface="Arial Black"/>
              </a:rPr>
              <a:t>Le Ch</a:t>
            </a:r>
            <a:r>
              <a:rPr b="0" lang="en-US" sz="4400" spc="-1" strike="noStrike">
                <a:solidFill>
                  <a:srgbClr val="581ff7"/>
                </a:solidFill>
                <a:latin typeface="Arial Black"/>
              </a:rPr>
              <a:t>âteau d’Edimbourg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Le Ch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âteau d’ Edimbourg est l’une des attractions touristiques princip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 Black"/>
              </a:rPr>
              <a:t>Tous les jours á une heure au château d’Edimbourg il y  un tir de can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995640" y="3157560"/>
            <a:ext cx="38530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8:56:55Z</dcterms:created>
  <dc:creator>CEC</dc:creator>
  <dc:description/>
  <dc:language>en-US</dc:language>
  <cp:lastModifiedBy>CEC</cp:lastModifiedBy>
  <dcterms:modified xsi:type="dcterms:W3CDTF">2012-03-09T09:47:11Z</dcterms:modified>
  <cp:revision>2</cp:revision>
  <dc:subject/>
  <dc:title>Ma Ville</dc:title>
</cp:coreProperties>
</file>